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3BDA-BB28-4F0D-8C23-DF42FBF3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87F3-2411-44D0-AF7B-5442E67F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3F3F-127E-43BA-AF5B-0D98B4F9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D301-A8CA-47A1-AD06-1BA9B89A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BA78-D02E-484A-B1CF-58A78904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DF0C-DFC7-42B0-BDB6-192C358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DE71-CD3C-4557-8BF3-0FFBB94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6949-6627-48C2-A04C-07EAF263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CFE0-0BEF-4E9D-9BFE-0F1B71E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87B9-688D-42D8-8DC2-1F2A42C1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7799-F13F-4274-BF51-84111301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EB43-F9F3-4540-8FFB-099E4C9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8146-1A19-4EF1-9584-8481FAF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653-05DB-4393-ADCC-A2806B03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3137-3BA5-4BE0-A650-98FBBDC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2DF5-E84F-4B97-8E58-1EDF1352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9050-51CB-4225-8047-2F6E8FFA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39C7-930E-46D0-BD62-6EF00B2A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FFC0-8583-4513-80C8-B370F74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94F9-BA34-419E-B67D-4B850C94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BE00-FA83-4B50-941E-E17104FF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79B4-6EE1-4851-B14D-EED1D30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0FD8-DE77-4251-87C8-2C2231C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E358-7C02-42FA-B83C-CDD51806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8FF3-9B5B-4101-BB18-81E9B928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8179-966C-4AE0-B4BE-390080A08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 (Ch. 3 Review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 following is a hydrophobic material: paper, table salt, wax, sugar, or past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kind of bonds are broken when water vaporiz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pH of a lake is 4.0, what is the hydrogen ion [H+] concentration of the lake? What is the hydroxide [OH-] concen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iso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lecules have same molecular formula, but differ in atom arran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ifferent structures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ifferent properties/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3352680"/>
          <a:ext cx="9144000" cy="1676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ructural Isom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is-Trans Isom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antiom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aries in covalent arran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ffer in spatial arran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irror images of molecu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2971800" y="5257800"/>
            <a:ext cx="325908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04920" y="5105520"/>
            <a:ext cx="24955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3049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ug manufactur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alidomi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o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antiom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duce morning sick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antiom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use birth de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o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nverts to 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patient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w used to treat cancers, leprosy,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191120" y="3618000"/>
            <a:ext cx="1923840" cy="297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3375000" cy="306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400800" y="3645000"/>
            <a:ext cx="22096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3808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g. 4.8 The pharmacological importance of enantiom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04_08PharmaEnantiomers-L.jpg"/>
          <p:cNvPicPr/>
          <p:nvPr/>
        </p:nvPicPr>
        <p:blipFill>
          <a:blip r:embed="rId1"/>
          <a:stretch/>
        </p:blipFill>
        <p:spPr>
          <a:xfrm>
            <a:off x="228600" y="1219320"/>
            <a:ext cx="86774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Functional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havior of organic molecules depends on function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ommon functional group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x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x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i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lfhydr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sph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4_09_aChemicalGroups-L.jpg"/>
          <p:cNvPicPr/>
          <p:nvPr/>
        </p:nvPicPr>
        <p:blipFill>
          <a:blip r:embed="rId1"/>
          <a:stretch/>
        </p:blipFill>
        <p:spPr>
          <a:xfrm>
            <a:off x="990720" y="-6480"/>
            <a:ext cx="71625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04_09_bChemicalGroups-L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nctional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drawingml/2006/table">
            <a:tbl>
              <a:tblPr/>
              <a:tblGrid>
                <a:gridCol w="1862280"/>
                <a:gridCol w="2371680"/>
                <a:gridCol w="2793960"/>
                <a:gridCol w="211608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ctional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lecular Formu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mes &amp; Characteris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 an 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Hydrox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lcoh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Eth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Carbon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&gt;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Ketones (inside skelet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ldehydes (at en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Prop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Carbox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CO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Carboxylic acids (organic acid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cet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NH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m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Glyc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Sulfhydr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Thi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Ethanethi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OPO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- </a:t>
                      </a: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/ -OPO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Organic phosph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Glycerol phosph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Meth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CH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Methylated compou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5-methyl cytid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pter 4 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up a copy of the 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ctional Groups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art on the back counter.  Use pages 64-65 to fill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arbon and the Molecular Diversity of Lif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perties of carbon that make it so import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. Importance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rganic chemist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branch of chemistry that specializes in study of carbon comp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rganic compoun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contain Carbon (&amp; 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ajor elements of li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CHNO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 can form large, complex, and diverse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2" descr="http://www.chem.purdue.edu/Orgdiv/Images/fuchs.gif"/>
          <p:cNvPicPr/>
          <p:nvPr/>
        </p:nvPicPr>
        <p:blipFill>
          <a:blip r:embed="rId1"/>
          <a:stretch/>
        </p:blipFill>
        <p:spPr>
          <a:xfrm>
            <a:off x="3809880" y="4473720"/>
            <a:ext cx="350532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has 4 valence electron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tetravale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can form up to 4 covalent b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requent bonding partners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, O,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352520" y="2209680"/>
            <a:ext cx="2914560" cy="25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53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nds can be single, double, or triple covalent bo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2" descr="http://chemwiki.ucdavis.edu/@api/deki/files/8564/=image080.png"/>
          <p:cNvPicPr/>
          <p:nvPr/>
        </p:nvPicPr>
        <p:blipFill>
          <a:blip r:embed="rId1"/>
          <a:stretch/>
        </p:blipFill>
        <p:spPr>
          <a:xfrm>
            <a:off x="646200" y="3103560"/>
            <a:ext cx="81198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 can form large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classes of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acromolecul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carbohydrates, proteins, lipids, nucleic ac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3" descr="04_06_FatMolecule-L.jpg"/>
          <p:cNvPicPr/>
          <p:nvPr/>
        </p:nvPicPr>
        <p:blipFill>
          <a:blip r:embed="rId1"/>
          <a:stretch/>
        </p:blipFill>
        <p:spPr>
          <a:xfrm>
            <a:off x="1905120" y="3147840"/>
            <a:ext cx="56386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lecules can be chains, ring-shaped, or bran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3" descr="04_05_CarbonSkeletons-L.jpg"/>
          <p:cNvPicPr/>
          <p:nvPr/>
        </p:nvPicPr>
        <p:blipFill>
          <a:blip r:embed="rId1"/>
          <a:stretch/>
        </p:blipFill>
        <p:spPr>
          <a:xfrm>
            <a:off x="1219320" y="2719440"/>
            <a:ext cx="69530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local</cp:lastModifiedBy>
  <dcterms:modified xsi:type="dcterms:W3CDTF">2012-09-06T14:35:53Z</dcterms:modified>
  <cp:revision>42</cp:revision>
  <dc:subject/>
  <dc:title>Warm-Up</dc:title>
</cp:coreProperties>
</file>